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065C-F2C2-4BB1-935B-D1E387AAE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E6C3-3607-4CE2-A0F5-636A8873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8249-F1F8-4A90-BD8D-E2C36B2CE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7A3D-A86A-4957-B9A7-9823DC555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4425-56D3-4BFF-A36E-E3F227A98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1A1B-FAF9-486B-816C-BCA3CCA7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968F-E403-44AE-87F3-157D0DB1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01C8-4E77-4300-BFCF-6A74F400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A418-7751-4348-9503-E040C525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481C-D1EA-41DF-BB81-1363C149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06C6-1062-40BE-B614-D21BE854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B41A-12A5-4999-9016-242575B3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C68B0-A8B0-47D8-8330-01668A9D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5673F-FE94-481D-9032-16C0F918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2359F-47B5-4513-9717-9EAFEBD8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E314-CA03-4613-A866-DD2BC2599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717F-0414-467D-9A2C-66D376EC5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779A0-BC1D-42F6-8BB1-9A2710924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59252-39DB-440D-A0F3-8FE08B1F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8C087-72C5-4A57-85FB-EF35261F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67B1B-3135-48BB-BE89-DE49D22D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89D44-581D-4F9F-B6CA-F50EA7EF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03ED-80F9-486D-A5AD-A414BAAB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72DD1-3684-466C-B16A-4D597720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C472D-6848-4BD5-BA60-EE53FD70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C5889-40DF-477C-8D11-9B2844B1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4BD6B-D4BE-4DE9-9977-3BB2E7B2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7BE0B-363B-45C7-B759-609CEACC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FC81A-E06C-4A4A-AF7C-E77C61AC0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3133B-8FFD-4CEF-8213-AAB6FC999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0C549-8163-4B2D-BDDD-6486D862C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ADE89-1228-4DD4-97DE-F9836667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BB0D7-EA2A-490E-A3A0-0EFD1399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5D55-15FA-447C-87FC-28447DA7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69D39-CF95-4A8F-8A98-D3E38AB3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D5D41-EC46-4286-BF79-7167C6ED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5B767-1648-45C9-ADED-02DC47ED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23675-42A6-4FB5-AC57-D7067420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00C02-0817-4140-9574-6A599209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4597C-16B9-4DC4-B23B-D5C54F79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3F8DB-341A-4B26-BBED-24A9674D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648FA-840B-4FBD-AA82-7DE757BC7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798EB-2F36-4EFC-95AB-1141371B4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A0D65-CAB5-4866-98BA-1835893E8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D9A3-44B9-4E2B-AB02-9DD82D5C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45CEB-18F1-4F7F-8FDD-2C5B5134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D2CDA-99B5-48B7-9F91-42D57EBE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938ED-DA4B-4AEC-964D-61053FA9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8452A-0C89-4671-9150-CA755E72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59B29-320D-4A8F-84D1-44FA55EA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788B6-E36F-462E-A272-375D4674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8E75B-81BC-48FD-AF68-38114BC4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4A4D8-F9EA-4B87-9DE6-33E023B3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644BA-4EB0-4940-98D6-5E0CDCF3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7CC9A-A42A-4ADD-8AA1-C760A65B0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2075-8A8E-45E1-BD52-74F5DD25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C5E5C-AFAE-4528-BD37-D3C5CBA46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246B1-8944-46F8-AA3F-1B5577722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81807-8D08-44BE-A1E1-D99BF61C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0E1CF-5654-44D6-A51E-B0EF166B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C117F-782A-43E3-98F9-9E591CD8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49769-EB36-42B3-A1A8-45ACD44E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6F68D-860A-473B-B745-9832EFA2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4B56E-F26E-42ED-A4CD-3BFAFA2F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DCA57-03EB-4603-B8D8-AA079FFA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FA72A-719E-4048-9B89-B474EF8D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3961-D398-476C-9752-24CE56A6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B8258-49DF-43FE-8DEE-CC2160B5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25E5F-A589-4ABB-B4C6-8B68FECC6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1F3BE-63FC-422E-8E2D-F7000A860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2A945-D8EF-429A-872D-7E1D5AC50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DF81D-2B2F-4325-809B-BB9D58EA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75521-1BBA-4882-B3D2-EF84B362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D34E2-18A6-4F60-AAB4-0EF6E45F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EC1DC-CC88-47C4-A86D-78C088AC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DEBB7-FCD4-46A7-B465-13F936C9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5EC9C-1FA1-468E-AA2F-07BA4787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7DB1-70EB-4A48-A580-10C3C4AF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264FB-C5D3-4886-B42A-D1F98390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CFEDD-F966-4105-BF6E-20B940B6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F7EE8-1E46-49D3-816A-8AA81A0D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8880F-E4DD-41DB-A905-7BF0A1C9D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CF545-4E76-4651-BFEF-CF1D82A76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A3A7-98FF-40BB-AAC7-031D0F34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7C9C-96E0-4545-A572-BA05C725CF1F}" type="slidenum"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D9B9-2194-418C-9D59-11EED38E4378}" type="slidenum"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722F-2205-4902-ACB1-6BAB1435AF7A}" type="slidenum"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FC14-3444-4A40-9DA5-E651F3F51387}" type="slidenum"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E8DF-B291-4313-80F6-6634519BA79E}" type="slidenum"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FBE8-EF0C-4027-B6DA-49D2539F63D6}" type="slidenum"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FA72-FAC8-419A-92F1-6820F78BECCF}" type="slidenum"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712000" cy="15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andara"/>
              </a:rPr>
              <a:t>新北市立金山高中</a:t>
            </a: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103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</a:rPr>
              <a:t>年</a:t>
            </a:r>
            <a:r>
              <a:rPr b="0" lang="zh-TW" sz="4000" spc="-1" strike="noStrike">
                <a:solidFill>
                  <a:srgbClr val="000000"/>
                </a:solidFill>
                <a:latin typeface="Candara"/>
              </a:rPr>
              <a:t>校務會議學務處提案</a:t>
            </a:r>
            <a:r>
              <a:rPr b="0" lang="en-US" sz="4000" spc="-1" strike="noStrike">
                <a:solidFill>
                  <a:srgbClr val="000000"/>
                </a:solidFill>
                <a:latin typeface="Candara"/>
              </a:rPr>
              <a:t>1</a:t>
            </a:r>
            <a:r>
              <a:rPr b="0" lang="zh-TW" sz="4000" spc="-1" strike="noStrike">
                <a:solidFill>
                  <a:srgbClr val="000000"/>
                </a:solidFill>
                <a:latin typeface="Candara"/>
              </a:rPr>
              <a:t>─</a:t>
            </a:r>
            <a:r>
              <a:rPr b="1" lang="zh-TW" sz="4000" spc="-1" strike="noStrike">
                <a:solidFill>
                  <a:srgbClr val="000000"/>
                </a:solidFill>
                <a:latin typeface="Candara"/>
              </a:rPr>
              <a:t>學生獎懲實施規定</a:t>
            </a:r>
            <a:r>
              <a:rPr b="1" lang="en-US" sz="4000" spc="-1" strike="noStrike">
                <a:solidFill>
                  <a:srgbClr val="000000"/>
                </a:solidFill>
                <a:latin typeface="Candara"/>
              </a:rPr>
              <a:t>〈</a:t>
            </a:r>
            <a:r>
              <a:rPr b="1" lang="zh-TW" sz="4000" spc="-1" strike="noStrike">
                <a:solidFill>
                  <a:srgbClr val="000000"/>
                </a:solidFill>
                <a:latin typeface="Candara"/>
              </a:rPr>
              <a:t>草案</a:t>
            </a:r>
            <a:r>
              <a:rPr b="1" lang="en-US" sz="4000" spc="-1" strike="noStrike">
                <a:solidFill>
                  <a:srgbClr val="000000"/>
                </a:solidFill>
                <a:latin typeface="Candara"/>
              </a:rPr>
              <a:t>〉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395280" y="2565000"/>
            <a:ext cx="856944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一、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本規定依新北市國民中學及高級中等學校學生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獎懲實施要點第五點第七項規定訂定之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二、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新北市立金山高級中等學校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以下簡稱本校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為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鼓勵學校學生優良表現，得採取下列獎勵措施：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79280" y="260280"/>
            <a:ext cx="88567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14.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發現同學衝突，未立即向師長報告，現場圍觀鼓譟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      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者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〈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經教育局審核通過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〉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en-US" sz="2800" spc="-1" strike="noStrike">
                <a:solidFill>
                  <a:srgbClr val="073e87"/>
                </a:solidFill>
                <a:latin typeface="Candara"/>
              </a:rPr>
              <a:t>15.</a:t>
            </a:r>
            <a:r>
              <a:rPr b="0" lang="zh-TW" sz="2800" spc="-1" strike="noStrike">
                <a:solidFill>
                  <a:srgbClr val="073e87"/>
                </a:solidFill>
                <a:latin typeface="Candara"/>
              </a:rPr>
              <a:t>具有相當於以上各目不良行為之一，合於記小過者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三）大過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定期考試或重大試場考試舞弊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參加幫派等不良組織或出入賭場等違法或不當場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所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無照駕駛汽機車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4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入侵學校或公共網路進行資料竊取、竄改或刪改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破壞，情節重大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5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以肢體暴力傷害他人或以強暴、脅迫、恐嚇等手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段勒索他人財物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250920" y="333000"/>
            <a:ext cx="86421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6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對師長或他人有惡意侮辱、謾罵等言語上攻擊，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情節重大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7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違反網路使用或智慧財產權相關法令規定，影響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校譽情節重大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8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對師長或他人為性騷擾行為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9.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偷竊行為情節重大，且不知悔悟者。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〈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經教育局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審核通過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〉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    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10.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酗酒、賭博、吸菸、吸食或注射麻醉品，屢誡不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改且影響校園安全或環境衛生者。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〈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經教育局審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核通過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〉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     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11.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住宿生就寢後不假外出或未經許可異性寢室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〈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經教育局審核通過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〉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  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323640" y="260280"/>
            <a:ext cx="856908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2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具有相當於以上各款之不良行為之一，合於記大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23560" indent="-22356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過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23560" indent="-22356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四）輔導管教目的所為之其他適當懲罰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23560" indent="-22356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23560" indent="-22356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0" lang="zh-TW" sz="9600" spc="-1" strike="noStrike">
                <a:solidFill>
                  <a:srgbClr val="000000"/>
                </a:solidFill>
                <a:latin typeface="Candara"/>
              </a:rPr>
              <a:t>簡  報  完  畢</a:t>
            </a:r>
            <a:endParaRPr b="0" lang="en-US" sz="9600" spc="-1" strike="noStrike">
              <a:solidFill>
                <a:srgbClr val="073e87"/>
              </a:solidFill>
              <a:latin typeface="Candara"/>
            </a:endParaRPr>
          </a:p>
          <a:p>
            <a:pPr marL="223560" indent="-22356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0" lang="zh-TW" sz="9600" spc="-1" strike="noStrike">
                <a:solidFill>
                  <a:srgbClr val="000000"/>
                </a:solidFill>
                <a:latin typeface="Candara"/>
              </a:rPr>
              <a:t>敬  請  指  教</a:t>
            </a:r>
            <a:endParaRPr b="0" lang="en-US" sz="9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179280" y="189000"/>
            <a:ext cx="878544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000000"/>
                </a:solidFill>
                <a:latin typeface="Candara"/>
              </a:rPr>
              <a:t>     </a:t>
            </a:r>
            <a:endParaRPr b="0" lang="en-US" sz="9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0" y="0"/>
            <a:ext cx="91440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一）口頭嘉勉或公開表揚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二）嘉獎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服裝儀容經常整潔，合於規定，足為同學模範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禮儀周到足為同學模範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生活言行學業較前進步，有事實表現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拾獲有相當價值之財物不昧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與同學互助合作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能主動扶助尊長、老弱婦孺，有具體事蹟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7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愛護公物有具體事蹟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8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主動為公服務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9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領導同學為團體服務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0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擔任各級幹部滿一學期，且善盡職責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1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參加體育運動具有運動精神、運動道德，表現優良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50560" y="189000"/>
            <a:ext cx="878508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2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參與校內活動確有成績表現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3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代表學校參加校外活動表現優良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4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具有相當於以上各目之優良行為之一，合於記嘉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獎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三）小功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行為誠正，有具體事實表現，增進校譽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倡導正當課餘活動成績優良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見義勇為能維護團體或同學權益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敬老扶弱，有顯著之事實表現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參加各種服務表現優異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熱心公益活動，有具體表現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7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維護團體秩序表現優異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8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擔任各級幹部滿一學期，且負責盡職表現優異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0" y="189000"/>
            <a:ext cx="91440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9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代表學校參加政府主管單位主辦市級性以上競賽，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成績特優或第一名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0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具有相當於以上各目之優良行為之一，合於記小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功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四）大功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愛護學校或同學，確有特殊事實表現，增進校譽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提供優良建議，並能率先力行，增進校譽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參加各項服務，表現卓越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代表學校參加政府主管單位主辦全國性以上競賽，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成績特優或第一名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具有相當於以上各目之優良行為之一，合於記大功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五）除前項各款之獎勵外，得另給予其他適當獎勵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597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三、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學生行為不當且情節輕微者，應予糾正，並採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取適當之輔導與管教措施。學校採取適當之輔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導與管教措施而無效果時，得視學生違規情節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輕重，採取下列懲罰措施：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一）警告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 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1.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無正當理由，曠課累計達四節課者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〈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經教育  </a:t>
            </a:r>
            <a:br>
              <a:rPr sz="2800"/>
            </a:b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              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局審核通過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〉</a:t>
            </a:r>
            <a:br>
              <a:rPr sz="2800"/>
            </a:b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          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2.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無正當理由，遲到未實施站立反省累計達三</a:t>
            </a:r>
            <a:br>
              <a:rPr sz="2800"/>
            </a:b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              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次者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〈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經教育局審核通過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〉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未依規定時間繳交作業，經催繳仍未改善者。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250920" y="26028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4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未依校園行動電話使用規則違規使用手機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5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違反交通規則或被無照駕駛同學載乘者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6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違反服裝儀容規定或內務不整潔，經勸告仍不改正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7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塗改或冒用師長名義於點名簿、請假單、成績單或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其他資料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8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團體清潔工作不盡職，經勸告仍不改正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9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擔任班級幹部敷衍塞責，嚴重影響工作推展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0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攜帶或公開刀械等違禁物品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如兒童及少年福利與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權益保障法第四十三條所 揭禁止行為所列之物品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1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集會無故不參加或中途離開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2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欺騙師長，有具體事實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532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3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破壞環境衛生情節輕微者。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4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因過失造成公物毀損，未能主動報告尋求解決者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5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對他人不當侵犯隱私、言語或態度上騷擾有具體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事實者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6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未經同意借取或占有他人財物，有明確事實者。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7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作品抄襲經他人檢舉，有具體事實者。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8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在走廊、樓梯、教室內從事奔跑、球類運動或其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他行為危及他人安全者。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9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上課、團體活動或集會時不當行為影響秩序者。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20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在公共場所或乘坐大眾運輸工具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含校車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影響秩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序，不遵守團體規範者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0" y="260280"/>
            <a:ext cx="88200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21.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禮貌不周，經勸導後仍不知改正者。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〈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經教育局審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       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核通過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〉</a:t>
            </a:r>
            <a:br>
              <a:rPr sz="2800"/>
            </a:b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22.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不聽班級幹部勸告者。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〈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經教育局審核通過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〉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23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具有相當於以上各目之不良行為之一，合於記警告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二）小過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同一學期中再犯前款之規定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不假離校外出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課堂平時考試舞弊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4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冒用他人名義致損及他人隱私或權益，有具體事實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5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提供自己或他人使用兒童及少年福利與權益保障法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第四十三條所揭禁止行為所列之物品。</a:t>
            </a:r>
            <a:r>
              <a:rPr b="0" lang="zh-TW" sz="2800" spc="-1" strike="noStrike">
                <a:solidFill>
                  <a:srgbClr val="073e87"/>
                </a:solidFill>
                <a:latin typeface="Candara"/>
              </a:rPr>
              <a:t>      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179280" y="189000"/>
            <a:ext cx="878544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6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破壞公物或公告物品，影響校園工作推展或安全維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護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7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以肢體行為侵犯他人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8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於公開場域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含網路公共空間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張貼散布不實言論或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不雅字眼，攻擊或毀謗他人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9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竊取他人財物，有具體事實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0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蓄意聚眾，對師長或他人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同儕、校外人士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有不當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侵犯隱私、言語或態度上騷擾之具體事實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11.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不服從糾察交通服務隊或經班級幹部糾正不聽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       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〈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經教育局審核通過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〉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12.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經師長同意私自進入學校管制處所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〈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經教育局審核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      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通過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〉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13.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住宿生違反宿舍規定者。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〈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經教育局審核通過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〉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5T10:18:24Z</dcterms:created>
  <dc:creator>ai1467</dc:creator>
  <dc:description/>
  <dc:language>en-US</dc:language>
  <cp:lastModifiedBy>User</cp:lastModifiedBy>
  <dcterms:modified xsi:type="dcterms:W3CDTF">2014-06-27T04:30:06Z</dcterms:modified>
  <cp:revision>33</cp:revision>
  <dc:subject/>
  <dc:title>新北市立金山高中101年校務會議學務處提案1─教師輔導與管教學生辦法</dc:title>
</cp:coreProperties>
</file>